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EB4-B61C-4027-A7D9-4AAC8CAB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F44-6C75-42C7-AEC5-23A9BA9F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7F1-6FD7-4407-8AB9-D16073B6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2F6-0530-4C0C-A6D2-DB48ED4B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3EDB-034D-44DE-A4EC-C7CD7C4B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620-B07F-43AA-8867-D957A743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D37-BBE7-49DD-AED2-B8495A98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330-2590-4DE8-BC3B-06C9A502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F58-8979-4F76-9BFB-20CE7CA6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F1BA-D0D5-40E5-8E8E-ACA049D6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3FE8-CFF2-4370-A83F-0CA135FF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B3E-6EC4-49A2-8BD4-7862DE85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B940-63C6-4E73-814D-19D082761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fricamap"/>
          <p:cNvPicPr/>
          <p:nvPr/>
        </p:nvPicPr>
        <p:blipFill>
          <a:blip r:embed="rId1"/>
          <a:stretch/>
        </p:blipFill>
        <p:spPr>
          <a:xfrm>
            <a:off x="6134040" y="333360"/>
            <a:ext cx="3009960" cy="2300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ing the Draft Concept Note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I. Hoeschle-Zele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593244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borative effort by colleagues from ICRISAT, ILRI, CIAT, ICRAF, AfricaRice, IMWI, IFPRI, AVRCD, and IIT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partners, others will be part of the further project design process, project implementation and disseminati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outputs for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leader: IITA</a:t>
            </a:r>
            <a:br>
              <a:rPr sz="32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 flipV="1">
            <a:off x="4067280" y="98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verall objective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rove livelihoods through sustainably increased productivity of cereal-legume-tree-horticulture-livestock integrated farming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roject addressing 3 cereal-based farming systems (compon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­ ma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orghum/mi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ri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ographic focu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92088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rthe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han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orthern, Upper East, Upper West Regions;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ze, rice, sorghum, pearl mi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outhe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ali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ikasso Region (similar agro-eco zone, extends into drier areas north); sorghum, pearl millet, ma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verty level, food insecurity risk, gender inequity, potential for productivity improvement with manifold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sites: tbd at thi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&amp;E: Impact evaluation, scaling up and out assessments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d by IFPRI, separate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duration: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ding: US$ 3.2m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3:13:07Z</dcterms:created>
  <dc:creator>zeledon</dc:creator>
  <dc:description/>
  <dc:language>en-US</dc:language>
  <cp:lastModifiedBy>PBallantyne</cp:lastModifiedBy>
  <dcterms:modified xsi:type="dcterms:W3CDTF">2012-01-10T07:22:25Z</dcterms:modified>
  <cp:revision>7</cp:revision>
  <dc:subject/>
  <dc:title>Sustainable Intensification of Cereal-based Farming Systems in the Sudano-Sahelian Zone</dc:title>
</cp:coreProperties>
</file>